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2A44-338B-45CB-A69C-0105FBF0582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FAA-8425-4758-AF95-E7DF3254C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0784-81BD-407D-93A1-0C96DC93D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3C88-8DB7-423F-86F8-F25E6BAFC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0D64-6C64-4FFC-B16E-08B0D6938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E72D-CA56-4821-94CF-B9C29C1C5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26CB-92C6-4E78-8DF5-3AADE1970E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C98C-21FD-473A-A811-65C3811B2F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683E-A2E8-42B7-A5E6-B622DA6585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3BCD-DFE7-40B5-8796-D972897B17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4E69-095F-43AF-80B6-9FCCB18FD7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FDF8-1294-4DB4-AE48-93E6BE039A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F799-5D23-4831-B8CB-AD8319784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72A5-CCB9-4792-8645-034716571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04E8-A4AE-4C75-9102-18F6B7EBF9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1FAA-962D-4804-8DF1-D52E914202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41A6-94ED-44D0-A5D9-6A674D18DD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5797-ED53-432D-854D-CFBEB9FAC2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382C-60F7-432E-A8FA-B71D412A51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570-419E-4A25-9054-9ED668FD89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CB9-25D8-456B-9561-51BCE5E001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68A-DC1F-49C7-A2A4-73B03E7B9E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AE7-C73A-45BE-80D4-42A14DD428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11B-7851-4169-B169-0ABBB4C289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1C48-C5B8-4E00-92CB-5A7A229ECB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D96-05BC-4836-B630-547EDB1787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0BA-EFD7-4C63-88BC-21E725EEAC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EF0-8C10-4466-9FF6-633E01CFF3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BFE-C17E-40F0-9A7B-96C198A6F1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6B5-FCC9-456B-8DEE-EAB15E839F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AB9-1014-4B80-8F17-2A79B5510C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7D7-5125-45AE-A603-90858A2F6E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D6F57-2790-45C6-98B1-472152C33E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E2649-AE67-47BC-9B49-62BE77BD38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D31EE-98F2-4072-A43F-5F8D0C23D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6E68-BB66-479F-8466-2AC90F30C2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C9E21-5C6E-450A-8BBE-55B8EE8988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0A3F8-A151-4820-8A21-72FA840FA2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42651-395C-438C-9689-D7D6D169E5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E6755-A762-4E8C-9A66-1E6294D761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9F990-0AF0-44EB-BC3D-19DA5546E6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6B14E-56A6-41A9-AFFA-8FFB10018E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17F39-480F-420A-A41B-62764AB78C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AF70E-EBAB-4F27-9793-50E372F93B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6F0DB-11D1-46E2-9EB2-96B362FB6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DCE2-2C48-4529-8184-7B3D24DEE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E189-5E9E-413F-959F-1960CC07D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FBFE-33A7-42BE-A345-2D072A5E6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C553-6583-41D1-B5EA-AD9145E64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D6D8-BCEF-4C37-89AB-7FFE95045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EF02-686E-4833-9C8E-38E63533BE9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19D5-9225-401F-9AC8-1AB9AC4285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841E-3771-4262-8E50-86354321C2E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3EE7-A579-4BE7-A062-8ABDEEE74AF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ymedina.com/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franchising.it/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F646-01E6-4238-B6BE-DEBD30703F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5562720" y="4800600"/>
            <a:ext cx="400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e46c0a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e46c0a"/>
                </a:solidFill>
                <a:latin typeface="Calibri"/>
              </a:rPr>
              <a:t>كلية </a:t>
            </a:r>
            <a:r>
              <a:rPr b="0" lang="ar-SA" sz="2400" spc="-1" strike="noStrike">
                <a:solidFill>
                  <a:srgbClr val="e46c0a"/>
                </a:solidFill>
                <a:latin typeface="Calibri"/>
              </a:rPr>
              <a:t>الآد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8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457200" y="2895480"/>
            <a:ext cx="5099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سم المقرر ورقمه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: مبادئ الإدا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ول</a:t>
            </a:r>
            <a:br>
              <a:rPr sz="2200"/>
            </a:b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0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 –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د. ندير علي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A636-EDDA-4F71-AB0E-3FF101B625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عائ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amily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تلك الأعمال الصغيرة التي تمتلك من طرف افراد عائلة واحدة لتوفير مصدر رزق لها (محلات تجارية، صيدليات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منز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ome-Based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مارس في المنزل ومملوكة مباشرة من قبل فرد أ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أكث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256F-41D3-4631-A23F-C39DED1F68A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عايير تصنيف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91FE-EE31-4F7A-A12C-1949A9F4403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0120" y="1785960"/>
          <a:ext cx="7120080" cy="3627360"/>
        </p:xfrm>
        <a:graphic>
          <a:graphicData uri="http://schemas.openxmlformats.org/drawingml/2006/table">
            <a:tbl>
              <a:tblPr/>
              <a:tblGrid>
                <a:gridCol w="3560760"/>
                <a:gridCol w="355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عيار عدد العم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دول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فراد 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مريك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ملكة العربية السعو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ـ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طان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تحاد الاورو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اليز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جزائ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جالات نشاط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توزيع بكافة أشكالها (مثل تجارة الجملة والتجزئة والنقل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خدمات الأخرى غير المادية (مثل الخدمات الطبية، المطاعم، التنظيف، 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بناء (البناء، الكهرباء 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تصنيع (مثل الحرفيين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9B9A-177B-40A8-851D-D09E84F91B3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همي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لق وظائف (في الكثير من الدول هي المحرك الاقتصادي الاساسي لخلق الوظائف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مصدر للإبداع التكنولوجي (تلعب دور كبير في تحسين وابتكار المنتجات وعمليات انتاجية جديدة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نافسة (تلعب دور ايجابي لخلق ودفع روح المنافسة في السوق وهذا يعد شيئ ايجابي للمستهلك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شباع حاجات المجتمع وقطاع الأعمال (مثل صناعة الجواهر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1A2-03F3-4E12-BDED-C78754E8C84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بادرة عبر الانترنت و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لقد فتح الانترنت آفاقا كبيرة أمام المبادرة في إطار الأعمال، فهناك الكثير من الأعمال الناجحة التي كانت بفضل جهود عدد قليل من الأفراد (مثل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Google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،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e-Bay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يمكنكم مراجعة موقع انترنت هذه منظمة الأعمال الصغيرة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mymedina.c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كمثال لمبادرات ناجحة في مجال الخدمات السياحة عبر الانترنت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227E-84F0-47A5-AD4B-3FD0FC38AE3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نجاح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فكرة جيد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طة واضح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جاعة وجرأة في التنفيذ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تباع إستراتيجية إبداعية قادرة على خلق ميزات تنافسية للمشروع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شخيص جزء من السوق الذي لم يخدم بشكل جيد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892E-7314-47A6-8D8D-0891FF2F83C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فشل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خبر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تجرب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إستراتيجية واضحة ل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قيادة الواعية للمحيط البيئ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رقابة مالية غير كاف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قلة الالتزام با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4E95-9C9D-4E62-92FF-B0BBB50A258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آليات إقام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بدء بعمل جديد تماما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راء 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نشاط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قائم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غيير اختصاص 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شراكة مع الآخرين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متياز </a:t>
            </a:r>
            <a:r>
              <a:rPr b="1" lang="it-IT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ranchising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(</a:t>
            </a:r>
            <a:r>
              <a:rPr b="0" lang="it-CH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nfofranchising.it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9F07-2380-4E51-A95C-0CE692D0B28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شخصيات ناجحة  بدأت من أعمال صغي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5F3B-F166-4890-98BF-F8D57F56FF5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047760" cy="2397240"/>
          </a:xfrm>
          <a:prstGeom prst="rect">
            <a:avLst/>
          </a:prstGeom>
          <a:ln w="0">
            <a:noFill/>
          </a:ln>
        </p:spPr>
      </p:pic>
      <p:sp>
        <p:nvSpPr>
          <p:cNvPr id="254" name="CasellaDiTesto 11"/>
          <p:cNvSpPr/>
          <p:nvPr/>
        </p:nvSpPr>
        <p:spPr>
          <a:xfrm>
            <a:off x="304920" y="39625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Bill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Microsoft</a:t>
            </a: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657600" cy="2386080"/>
          </a:xfrm>
          <a:prstGeom prst="rect">
            <a:avLst/>
          </a:prstGeom>
          <a:ln w="0">
            <a:noFill/>
          </a:ln>
        </p:spPr>
      </p:pic>
      <p:sp>
        <p:nvSpPr>
          <p:cNvPr id="256" name="CasellaDiTesto 5"/>
          <p:cNvSpPr/>
          <p:nvPr/>
        </p:nvSpPr>
        <p:spPr>
          <a:xfrm>
            <a:off x="5105520" y="3962520"/>
            <a:ext cx="45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Sergey Brin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 Larry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Google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D458-316E-46C8-A59C-962BFFBBAA4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743120" cy="2781360"/>
          </a:xfrm>
          <a:prstGeom prst="rect">
            <a:avLst/>
          </a:prstGeom>
          <a:ln w="0">
            <a:noFill/>
          </a:ln>
        </p:spPr>
      </p:pic>
      <p:sp>
        <p:nvSpPr>
          <p:cNvPr id="260" name="CasellaDiTesto 5"/>
          <p:cNvSpPr/>
          <p:nvPr/>
        </p:nvSpPr>
        <p:spPr>
          <a:xfrm>
            <a:off x="228600" y="43434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Enzo Ferrari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t3.gstatic.com/images?q=tbn:Ia63lG06pgZcBM:http://kingdom.com.sa/sysadmin/NewsManagment/articlefiles/280-HRH%2520Prince%2520Alwaleed%2520bin%2520Talal,%2520Apr%252009.JPG"/>
          <p:cNvPicPr/>
          <p:nvPr/>
        </p:nvPicPr>
        <p:blipFill>
          <a:blip r:embed="rId2"/>
          <a:stretch/>
        </p:blipFill>
        <p:spPr>
          <a:xfrm>
            <a:off x="6629400" y="1600200"/>
            <a:ext cx="1847880" cy="277164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5"/>
          <p:cNvSpPr/>
          <p:nvPr/>
        </p:nvSpPr>
        <p:spPr>
          <a:xfrm>
            <a:off x="5562720" y="44197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46c0a"/>
                </a:solidFill>
                <a:latin typeface="Arial"/>
              </a:rPr>
              <a:t>Al-Walīd bin Ṭalā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ال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حاضرة الثانية عشرة</a:t>
            </a: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: </a:t>
            </a:r>
            <a:br>
              <a:rPr sz="32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الريادة </a:t>
            </a:r>
            <a:br>
              <a:rPr sz="5400"/>
            </a:b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والمشروعات الصغير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8D74-E74A-4A6D-AE3D-8316B425A4E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834E-F6D8-477F-8E33-A282F250D0B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6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376092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ZoneTexte 3"/>
          <p:cNvSpPr/>
          <p:nvPr/>
        </p:nvSpPr>
        <p:spPr>
          <a:xfrm>
            <a:off x="228600" y="1600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ت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هدف هذ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ه المحاضرة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إلى التعريف بـ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مفهوم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المبادر والريادة والمشروعات الصغير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خصائص الشخصية المبادرة اوالرائد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 معايير تصنيف الأعمال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عنصر نائب لرقم الشريحة 4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D5E-D96B-4317-9321-B9382B72C28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حتوى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هوم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خصائص الشخصية المبادر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اهيم خاطئة عن الشخصية المباد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نواع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عايير تصنيف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جالات نشاط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المبادرة عبر الانترنت و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سباب نجاح وفشل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5492-8F14-4687-83DC-BB4562D1284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هوم المبادرات الخاصة </a:t>
            </a:r>
            <a:r>
              <a:rPr b="1" lang="it-IT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Entrepreneurship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  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ي خصائص وسلوكات تتعلق بالابتداء بعمل والتخطيط له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وتنظيمه وتحمل  مخاطره والإبداع في إدارت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376092"/>
                </a:solidFill>
                <a:latin typeface="Times New Roman"/>
                <a:cs typeface="Times New Roman"/>
              </a:rPr>
              <a:t>المبادر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هو فرد يتمتع بقدرات على تحمل المخاطر ورؤية الفرص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التخطيط والإدارة الإبداعية لعمل خاص ب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29FE-3244-4AFD-84CE-6735A15E542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خصائص الشخصية المباد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التحكم الذاتي والاعتقاد بأن مصيرهم يحددونه بأنفسهم ويحبون الاستقلال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متعون بطاقة عمل هائلة ويعملون بجد واجتهاد ومثابرة ورغبة بالتميز والنجاح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شعرون بالحاجة إلى تحقيق انجازات متميز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سعون وراء تحقيق أهداف فيها نسبة كبيرة من التحد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CA01-0D0F-4973-9795-5384055F860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523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قبلون حالات الغموض ويتحملون المخاط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ثقة عالية بالنفس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ت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حلون بالصب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ستقلالية وعدم الاتكال على الغي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تقبل الفشل ومن ثم تصحيح الأخطاء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8375-07BE-41B6-9ED3-4AB50CE5A20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اهيم خاطئة عن الشخصية المبادرة 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ولدون بموهب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خص مغام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ال هو مفتاح نجاح المباد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اب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حمل شهادة جامع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CC20-E6D4-4C89-90DE-BD21A66095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نواع المبادرات الخاص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-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عمال الصغيرة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mall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مشروع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يمتلك ويدار من قبل فرد أو أفراد معدودين وبشكل مستقل ويعمل فيه عدد قليل من العاملين ولا يهيمن بأي شكل من الأشكال على القطاع الذي ينشط في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إعمال الصغيرة جدا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</a:rPr>
              <a:t>Micro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وجد في مكان واحد ويعمل فيها اقل من خمسة أفراد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غالبا ما تكون أعمالا حرف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9E42-1F94-4972-8E11-507176486F9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dr. nadir aliane</dc:creator>
  <dc:description/>
  <dc:language>en-US</dc:language>
  <cp:lastModifiedBy>kfu</cp:lastModifiedBy>
  <dcterms:modified xsi:type="dcterms:W3CDTF">2010-12-12T13:17:52Z</dcterms:modified>
  <cp:revision>152</cp:revision>
  <dc:subject/>
  <dc:title>Slide 1</dc:title>
</cp:coreProperties>
</file>